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7C0E-8118-4B72-A275-CF659531D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E5DB-6FEF-49A1-AE57-EE8163CD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F2A1-3664-4409-B807-0D9201911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6E13-276B-489C-9BA4-89ED5ACFF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0C75-DB7C-4A96-9EA9-CB89362F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DCAC-E3C6-4B85-9BD8-A78ED444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B620-D9B0-458E-AF85-FB302822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27BC-3C3D-4EFA-874C-722C17A3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3EB3-E4B9-42D6-B69F-95F177F3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AE82-FA2C-4884-9791-86AE825B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14B5-8274-4244-B1EE-E1969BC7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732B-FAC6-435E-B572-E02108B1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CF21-322E-42CB-AFDD-A12C7D0BD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1951018tSNAoaKom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267440" y="0"/>
            <a:ext cx="586368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abic Transparent"/>
              </a:rPr>
              <a:t>يا أبانا لستُ أدر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abic Transparent"/>
              </a:rPr>
              <a:t>كيف كان عمري يجر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abic Transparent"/>
              </a:rPr>
              <a:t>دون أن أدركَ أنّك أنت أ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abic Transparent"/>
              </a:rPr>
              <a:t>لكنّي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آن إبنُ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نت ترعاني بحبِّ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فلن أخافَ أبدا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لأنّك تُمسِك يمي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سـأسـبِّحُكَ وأهتفُ ل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للأبد أنا لك، للأب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سـأسـبِّحُكَ وأهتفُ ل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للأبد أنا لك، للأب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8:51:00Z</dcterms:created>
  <dc:creator>USER</dc:creator>
  <dc:description/>
  <dc:language>en-US</dc:language>
  <cp:lastModifiedBy>USER</cp:lastModifiedBy>
  <dcterms:modified xsi:type="dcterms:W3CDTF">2002-10-30T19:05:30Z</dcterms:modified>
  <cp:revision>8</cp:revision>
  <dc:subject/>
  <dc:title>PowerPoint Presentation</dc:title>
</cp:coreProperties>
</file>